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209-89CE-4349-BD0A-19CEE95B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FCB-072A-44A0-9425-C7E457AD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F8F-F9BB-4B18-8B94-2E23D857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168-9631-4265-8ABD-4C55C3B8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291-B383-4F97-B919-CAAAA985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920-13BF-4EE6-83B3-2C59F6B1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2DB-BCDA-49F4-9143-82F7B736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EDE-46A6-403E-BB54-46884B7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216-A0FB-4747-B8A9-FBC0D0C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C03-82F9-4948-AFC3-6941C1B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3E8-A623-48F1-ACB2-C2BEF6A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832-77C2-4325-A2FB-5298F36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AEE7-731E-404E-81FC-B071CE872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167680" cy="1739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4610160" cy="38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7560" y="2550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59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6768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1520" y="695160"/>
            <a:ext cx="7860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18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6597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240" y="2286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967280" cy="406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6720" y="865080"/>
            <a:ext cx="78105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8627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0240" cy="93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3720" y="20574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98108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198108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3:14:18Z</dcterms:created>
  <dc:creator>Graham</dc:creator>
  <dc:description/>
  <dc:language>en-US</dc:language>
  <cp:lastModifiedBy>Graham</cp:lastModifiedBy>
  <dcterms:modified xsi:type="dcterms:W3CDTF">2011-10-22T23:30:53Z</dcterms:modified>
  <cp:revision>2</cp:revision>
  <dc:subject/>
  <dc:title>Slide 1</dc:title>
</cp:coreProperties>
</file>